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EBB-AC20-4B3F-800A-4052E6AA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38C-94B9-476F-B0BA-A9CEE65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BA4-E881-4E89-8981-6978A3A7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AA0-2FE0-4D5F-8985-E649C101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C0D2-1CCA-4D88-80C7-187B22C17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9091-11EB-421F-96CA-7A59F5B86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64A5-A946-4AC9-8F11-F7A50A24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A76F-C4C4-4AB0-B071-0ABF287F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57D5-C94B-4A7B-AE51-7713F22F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403A-6EE3-4BAE-A54D-C7512ACA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8863-676D-4162-99E2-855116B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3F6-780B-420D-8078-B206EBC5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BBDA-08A8-4B7D-AFD7-30257302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0E4-00FF-44CF-ABD6-89ABC4C9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9BDF-A087-49C6-8B06-468BFE6C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56EB0-F047-4799-A4BD-9BDD8E9BC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479F-B01A-48A5-B2A4-FC86F3DB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104-5A7C-4CCF-81F0-F66E5B3A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CE5D-9025-433B-92CE-93E03BC1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4861-7E85-4DC2-B746-29DF5F2C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590-A076-4AAF-8D32-368494EE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D4DB-5FEE-4B26-B6E2-A518C502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7B5-D068-4EB3-846C-15AC3DB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D8B3-CAEE-4F70-B441-25E774D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9017-490C-4749-A803-37AD9A517AD1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E656-A0B1-4E4A-9368-87BB2124E7AB}" type="slidenum">
              <a:rPr b="0" lang="it-IT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6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6.xml"/><Relationship Id="rId10" Type="http://schemas.openxmlformats.org/officeDocument/2006/relationships/slide" Target="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660066"/>
                </a:solidFill>
                <a:uFillTx/>
                <a:latin typeface="Tahoma"/>
              </a:rPr>
              <a:t>Procedimento per studiare una funzione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85800"/>
            <a:ext cx="9144000" cy="57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o studio di una funzione, reale di una variabile reale  y=f(x),  consiste  nel determinare gli elemen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aratterizzanti la funzione che permettono di disegnarne  il grafico;si può  procedere con il seguente schem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.Determinazione del campo di esistenza (C.E.)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:  i casi che si possono presentare sono i seguent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 razionali  intere: il C.E.è costituito da qualunque valore della  x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razionali fratte: il C.E. è costituito da ogni  valori della  x  , esclusi,  se ci sono, quelli che rendono nullo il denominatore della funzion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irrazionali:si devono distinguere due casi in relazione all’indice   “n”  della radice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e   “n”   è dispari il C.E. è formato da ogni   x   reale esclusi quelli, eventuali, che annullano denominatori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e   “n”   è pari il C.E. è costituito soltanto da quegli   x   che rendono positivo o nullo il radicand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goniometriche:  y=sen(x)  e  y=cos(x)  esistono per ogni   x   reale;  mentre  y=tg(x)  esiste per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                 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on   k   intero relativo ,  e  y=ctg(x)  esiste per ogni                      con   k   intero relativo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esponenziali del tipo                               : la condizione che determina il C.E. è che la base sia positiva cioè, f(x)&gt;0.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40458c"/>
              </a:buClr>
              <a:buFont typeface="Times New Roman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logaritmiche del tipo                                : le condizioni che individuano il C.E. sono le seguenti   f(x)&gt;0   e   g(x)&gt;0,              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839080" y="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480" y="4419720"/>
                <a:ext cx="978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k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019920" y="4572000"/>
                <a:ext cx="63504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kπ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200400" y="4876920"/>
                <a:ext cx="1054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00400" y="5486400"/>
                <a:ext cx="1257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971800" y="5715000"/>
                <a:ext cx="6858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248520" y="6583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Avanti: continua i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04920" y="304920"/>
            <a:ext cx="3124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lcolo della derivata pri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tudio del segno della derivata pri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04920" y="4343400"/>
            <a:ext cx="38862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Intervalli di crescenza decresce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La funzione è crescente per: 1&lt;x&lt;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54864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Massimi e minimi relativi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’è un massimo relativo in: Mr(4,4/3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80880" y="914400"/>
                <a:ext cx="2222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80880" y="3276720"/>
                <a:ext cx="35816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609480" y="6583320"/>
            <a:ext cx="121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574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Funz.raz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81280" y="6583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64771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04920" y="304920"/>
            <a:ext cx="3200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lcolo derivata secon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1828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Studio segno derivata second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4920" y="3581280"/>
            <a:ext cx="426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oncavità verso l’alto e verso il bass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La funzione ha la concavità verso l’al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per:x&gt;11/2, verso il basso per: x&lt;4 ma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5181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Punti di flesso:</a:t>
            </a: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’è un punto di flesso per x=11/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80880" y="914400"/>
                <a:ext cx="21592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66760" y="2438280"/>
                <a:ext cx="25398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 rot="10800000">
                <a:off x="4495680" y="4419720"/>
                <a:ext cx="5079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609480" y="6583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133720" y="6583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Funz.raz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57600" y="6583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229600" y="6583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914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Grafico della funzione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:                                            (fare clic per visualizzare gli elementi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286000" y="304920"/>
                <a:ext cx="9399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04920" y="65833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752480" y="658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Funz.raz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52680" y="6583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5181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54864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A(0,-4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5029200" y="38862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4876200" y="4037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38680" y="4343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(+2,0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24080" y="4343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B(-2,0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00600" y="1294920"/>
            <a:ext cx="0" cy="4953240"/>
          </a:xfrm>
          <a:prstGeom prst="line">
            <a:avLst/>
          </a:prstGeom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9480" y="3581280"/>
            <a:ext cx="8077320" cy="0"/>
          </a:xfrm>
          <a:prstGeom prst="line">
            <a:avLst/>
          </a:prstGeom>
          <a:ln w="9360">
            <a:solidFill>
              <a:srgbClr val="ecd8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3124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Y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81480" y="129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X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34290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334120" y="2743200"/>
                <a:ext cx="7999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59436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358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less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391520" y="6172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077320" y="64771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ahoma"/>
              </a:rPr>
              <a:t>Fin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80880"/>
            <a:ext cx="914400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g) Funzioni goniometriche inverse: y=arcsen(x)   e   y=arccos(x)   sono definite per                           ,ment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y=arctg(x)   e   y=arcctg(x)   esistono per ogni   x   real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h) Funzioni iperboliche: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ono definite per ogni   x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buClr>
                <a:srgbClr val="40458c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Funzioni in valore assoluto: il valore assoluto non induce alcuna limitazione al C.E. della funzione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buClr>
                <a:srgbClr val="40458c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2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Intersezioni con gli assi cartesian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per l’intersezione con l’asse   x   , si risolve il sistema formato dalle due equazioni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ioè si risolve l’equazione   f(x)=0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per l’intersezione con l’asse   y   , si risolve il sistema formato da :         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Può essere utile individuare anche le eventuali simmetrie rispetto all’asse   y   o all’origine  e  le eventuali periodicità.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3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Studio del segno della fun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495360" indent="-49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a funzione è positiva quando il suo grafico si  trova, rispetto agli assi cartesiani, dalla parte del semiasse positivo delle   y ; l’intervallo di positività si determina risolvendo la disequazione :   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7086600" y="457200"/>
                <a:ext cx="95256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2286000" y="1066680"/>
                <a:ext cx="5308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ct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838080" y="64771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dietro:inizio de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391520" y="2971800"/>
                <a:ext cx="12445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5867280" y="3733920"/>
                <a:ext cx="123192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7543800" y="6019920"/>
                <a:ext cx="73656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6553080" y="64008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Avanti: continua i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4572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.Calcolo di limi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i calcolano i limiti  negli estremi del C.E. per  vedere l’andamento della funzione; si trovano gli eventuali   punti di discontinuità e si stabilisce la specie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. Ricerca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 degli asintot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Gli asintoti possono essere di tre tipi: verticali, orizzontali  e obliqu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a) Asintoti verticali: una retta del tipo   x=a   è un asintoto verticale se è soddisfatta la condizion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b) Asintoti orizzontali: una retta di equazione   y=k   è un asintoto orizzontale 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c) Asintoti obliqui: la retta di equazione y=mx+q risulta un asintoto obliquo, per il grafico della funzione,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e,dopo avere verificato che è soddisfatta  la condizione                                  , risultano finiti i valori dei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due limiti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i noti che trattando lo studio di funzioni univoche la presenza di un asintoto orizzontale esclude la   presenza di quello verticale e vicever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90920" y="6583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dietro:procedimento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33520" y="2895480"/>
                <a:ext cx="19303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010280" y="3352680"/>
                <a:ext cx="180360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029200" y="4038480"/>
                <a:ext cx="156204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447920" y="4267080"/>
                <a:ext cx="5740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990720" y="65833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Inizio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0572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3" action="ppaction://hlinksldjump"/>
              </a:rPr>
              <a:t>Avanti:continua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6583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izio del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65833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Indietro: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049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6.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 Studio del segno della derivata prim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a funzione è crescente  negli intervalli che sono soluzione della disequazione                       mentre è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decrescente per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Un punto di ascissa            è un massimo relativo,          , se sono soddisfatte le condizioni 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Il punto           è un minimo relativo se: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7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Studio del segno della derivata second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La funzione ha la concavità rivolta verso l’alto negli intervalli che costituiscono la soluzione della disequazione                                  mentre la concavità è rivolta verso il basso quand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In un punto          di massimo relativo risulta pertanto                    mentre in un minimo relativo si h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Un punto si dice di flesso,  F  , quando risulta :                             ;in un punto di flesso la retta tangente alla curva-grafico della funzione, attraversa la curva stessa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Quando la tengente inflessionale è parallela all’asse  x  ,deve essere:                                                 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832440" y="679320"/>
                <a:ext cx="787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33400" y="1060560"/>
                <a:ext cx="774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981080" y="1447920"/>
                <a:ext cx="241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495680" y="1447920"/>
                <a:ext cx="2923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22120" y="1752480"/>
                <a:ext cx="4419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66680" y="2209680"/>
                <a:ext cx="2415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657600" y="2133720"/>
                <a:ext cx="40766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;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se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1371600" y="3505320"/>
                <a:ext cx="8002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162920" y="3505320"/>
                <a:ext cx="7999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143000" y="3886200"/>
                <a:ext cx="2919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419720" y="3886200"/>
                <a:ext cx="9014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55160" y="3886200"/>
                <a:ext cx="88884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343400" y="4267080"/>
                <a:ext cx="888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867280" y="4800600"/>
                <a:ext cx="17780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6705720" y="6583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3" action="ppaction://hlinksldjump"/>
              </a:rPr>
              <a:t>Avanti:continua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8763120" y="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6583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1" action="ppaction://hlinksldjump"/>
              </a:rPr>
              <a:t>Inizio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14600" y="6583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imes New Roman"/>
                <a:hlinkClick r:id="rId2" action="ppaction://hlinksldjump"/>
              </a:rPr>
              <a:t>Indietro.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57200"/>
            <a:ext cx="9144000" cy="33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8. </a:t>
            </a:r>
            <a:r>
              <a:rPr b="0" lang="it-IT" sz="1600" spc="-1" strike="noStrike" u="sng">
                <a:solidFill>
                  <a:srgbClr val="40458c"/>
                </a:solidFill>
                <a:uFillTx/>
                <a:latin typeface="Times New Roman"/>
              </a:rPr>
              <a:t>Esame di situazioni particolar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a) Punti in cui  non esiste la derivata prima: flessi verticali, cuspidi, punti angolos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b) Simmetrie rispetto a punti o rette particolari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Studiamo ora un </a:t>
            </a:r>
            <a:r>
              <a:rPr b="0" lang="it-IT" sz="1600" spc="-1" strike="noStrike" u="sng">
                <a:solidFill>
                  <a:srgbClr val="6f89f7"/>
                </a:solidFill>
                <a:uFillTx/>
                <a:latin typeface="Times New Roman"/>
                <a:hlinkClick r:id="rId3" action="ppaction://hlinksldjump"/>
              </a:rPr>
              <a:t>esempio di  funzione razionale fratta</a:t>
            </a:r>
            <a:r>
              <a:rPr b="0" lang="it-IT" sz="1600" spc="-1" strike="noStrike">
                <a:solidFill>
                  <a:srgbClr val="40458c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0066"/>
                </a:solidFill>
                <a:latin typeface="Tahoma"/>
              </a:rPr>
              <a:t>Funzioni razionali fratt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121932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295280"/>
            <a:ext cx="838188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funzioni razionali fratte quelle del tipo:                    in cui la x compare al denominator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Sono caratterizzate dal fatto che generalmente presentano degli asintoti verticali del tipo            per i  valori della x in cui si annulla il denominatore. Cioè per gli x tali che risult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               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,tali valori sono esclusi dal C.E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Esempio 1</a:t>
            </a:r>
            <a:r>
              <a:rPr b="0" lang="it-IT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53080" y="1219320"/>
                <a:ext cx="9525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419720" y="3200400"/>
                <a:ext cx="9144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57200" y="4114800"/>
                <a:ext cx="8888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133720" y="5029200"/>
                <a:ext cx="11682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09480" y="6400800"/>
            <a:ext cx="2971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Torna a :procedimento studio funzion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660066"/>
                </a:solidFill>
                <a:uFillTx/>
                <a:latin typeface="Tahoma"/>
              </a:rPr>
              <a:t>Esempio 1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304920" y="4572000"/>
            <a:ext cx="853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mpo di esistenz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C.E. 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Funzione: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48120" y="1143000"/>
            <a:ext cx="5486400" cy="33526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971800" y="6858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Grafic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9480" y="2438280"/>
                <a:ext cx="11685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5790960" cy="3446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1295280" y="5486400"/>
                <a:ext cx="6732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4267080" y="6324480"/>
            <a:ext cx="35053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81480" y="5105520"/>
            <a:ext cx="0" cy="17524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715000" y="6247800"/>
            <a:ext cx="7632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6400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58672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cd882"/>
                </a:solidFill>
                <a:latin typeface="Tahoma"/>
              </a:rPr>
              <a:t>(Clic per visualizzare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6583320"/>
            <a:ext cx="1676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Torna a 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2320" y="6583320"/>
            <a:ext cx="175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Torna a 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fun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.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ra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6477120"/>
            <a:ext cx="175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Avanti:pag.seguen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486400" y="3276720"/>
            <a:ext cx="243828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0492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Intersezione asse 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144792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Intersezioni asse 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3657600"/>
            <a:ext cx="5791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Segno della funzio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80880" y="914400"/>
                <a:ext cx="22482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80880" y="2057400"/>
                <a:ext cx="50799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0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" y="4572000"/>
                <a:ext cx="38098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: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4724280" y="5181480"/>
            <a:ext cx="38102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705720" y="3504960"/>
            <a:ext cx="0" cy="3352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924680" y="3505320"/>
            <a:ext cx="0" cy="2743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486400" y="3581280"/>
            <a:ext cx="0" cy="27432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5181480"/>
            <a:ext cx="609480" cy="1676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24680" y="5181480"/>
            <a:ext cx="457200" cy="1676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54100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ecd882"/>
                </a:solidFill>
                <a:latin typeface="Tahoma"/>
              </a:rPr>
              <a:t>(Clic per visualizzare)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324480" y="5638680"/>
            <a:ext cx="8384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raf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153280" y="3886200"/>
            <a:ext cx="8384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raf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495680" y="3809880"/>
            <a:ext cx="838440" cy="7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Grafic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534520" y="658332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6583320"/>
            <a:ext cx="12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6583320"/>
            <a:ext cx="121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Fun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.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8" action="ppaction://hlinksldjump"/>
              </a:rPr>
              <a:t>ra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9" action="ppaction://hlinksldjump"/>
              </a:rPr>
              <a:t>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6583320"/>
            <a:ext cx="1904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10" action="ppaction://hlinksldjump"/>
              </a:rPr>
              <a:t>Indietro:pag.preceden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502160" y="3295800"/>
                <a:ext cx="13968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05" name="" descr=""/>
          <p:cNvPicPr/>
          <p:nvPr/>
        </p:nvPicPr>
        <p:blipFill>
          <a:blip r:embed="rId11"/>
          <a:stretch/>
        </p:blipFill>
        <p:spPr>
          <a:xfrm>
            <a:off x="3733920" y="380880"/>
            <a:ext cx="4857480" cy="1528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5486400" y="1676520"/>
            <a:ext cx="76320" cy="75960"/>
          </a:xfrm>
          <a:prstGeom prst="ellipse">
            <a:avLst/>
          </a:prstGeom>
          <a:solidFill>
            <a:srgbClr val="eb09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05720" y="838080"/>
            <a:ext cx="75960" cy="76320"/>
          </a:xfrm>
          <a:prstGeom prst="ellipse">
            <a:avLst/>
          </a:prstGeom>
          <a:solidFill>
            <a:srgbClr val="eb09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343400" y="838080"/>
            <a:ext cx="76320" cy="76320"/>
          </a:xfrm>
          <a:prstGeom prst="ellipse">
            <a:avLst/>
          </a:prstGeom>
          <a:solidFill>
            <a:srgbClr val="eb094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04920" y="304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Calcolo limiti in estremi C.E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42670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Asintoti verticali: x=+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49528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Asintoti orizzontali: y=+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4920" y="57913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40458c"/>
                </a:solidFill>
                <a:uFillTx/>
                <a:latin typeface="Tahoma"/>
              </a:rPr>
              <a:t>Asintoti obliqui:non ce ne sono</a:t>
            </a:r>
            <a:r>
              <a:rPr b="0" lang="it-IT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88880" y="971640"/>
                <a:ext cx="2222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8880" y="1886040"/>
                <a:ext cx="22226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495360" y="2800440"/>
                <a:ext cx="2311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95360" y="3638520"/>
                <a:ext cx="23112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[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609480" y="6583320"/>
            <a:ext cx="12193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Procediment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52480" y="6583320"/>
            <a:ext cx="1371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Fun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.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4" action="ppaction://hlinksldjump"/>
              </a:rPr>
              <a:t>raz</a:t>
            </a: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5" action="ppaction://hlinksldjump"/>
              </a:rPr>
              <a:t>.fratt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29000" y="658332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6" action="ppaction://hlinksldjump"/>
              </a:rPr>
              <a:t>Indiet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58332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6f89f7"/>
                </a:solidFill>
                <a:uFillTx/>
                <a:latin typeface="Tahoma"/>
                <a:hlinkClick r:id="rId7" action="ppaction://hlinksldjump"/>
              </a:rPr>
              <a:t>Avant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3124080" y="2362320"/>
            <a:ext cx="5695920" cy="3098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029200" y="1219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40458c"/>
                </a:solidFill>
                <a:latin typeface="Tahoma"/>
              </a:rPr>
              <a:t>(fare clic per visualizzare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3124080"/>
            <a:ext cx="5105520" cy="0"/>
          </a:xfrm>
          <a:prstGeom prst="line">
            <a:avLst/>
          </a:prstGeom>
          <a:ln w="9360">
            <a:solidFill>
              <a:srgbClr val="dd0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705720" y="2438280"/>
            <a:ext cx="0" cy="2819520"/>
          </a:xfrm>
          <a:prstGeom prst="line">
            <a:avLst/>
          </a:prstGeom>
          <a:ln w="9360">
            <a:solidFill>
              <a:srgbClr val="dd07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4800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X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65760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58c"/>
                </a:solidFill>
                <a:latin typeface="Tahoma"/>
              </a:rPr>
              <a:t>Y=+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8T08:21:01Z</dcterms:created>
  <dc:creator>laboratorio multimediale</dc:creator>
  <dc:description/>
  <dc:language>en-US</dc:language>
  <cp:lastModifiedBy>Claudio Cinti</cp:lastModifiedBy>
  <dcterms:modified xsi:type="dcterms:W3CDTF">2002-12-23T15:36:18Z</dcterms:modified>
  <cp:revision>20</cp:revision>
  <dc:subject/>
  <dc:title>Esempio 1</dc:title>
</cp:coreProperties>
</file>